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F58-21F1-473A-B4ED-C30EA017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704-042D-4EB8-AD47-3AAE2B44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633F-DAA0-43A6-A0D1-3794343D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7A2F-A41C-4D53-87FD-31E91F34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C66-162F-4333-8C1E-B6BBE63C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879-BDAF-4F59-AF4E-DB58071C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57F8-652A-4539-A8EF-178255E1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BF66-4C0D-4475-AA38-2E386D3D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109-8278-4D39-8117-1D353390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3A9-3909-4531-A2B3-1DBE1FFC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CDB6-C8CC-40FB-BD23-612BD631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6CF-E5C4-4EF1-BDCF-7ED410BA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5396-21D6-4E65-9B5C-8733190D63D3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0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c3300"/>
                </a:solidFill>
                <a:latin typeface="Arial"/>
              </a:rPr>
              <a:t>PROFIL PREDUZE</a:t>
            </a:r>
            <a:r>
              <a:rPr b="1" lang="hr-HR" sz="4400" spc="-1" strike="noStrike">
                <a:solidFill>
                  <a:srgbClr val="cc3300"/>
                </a:solidFill>
                <a:latin typeface="Arial"/>
              </a:rPr>
              <a:t>Ć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9966"/>
                </a:solidFill>
                <a:latin typeface="Arial"/>
              </a:rPr>
              <a:t>HOTEL IZVOR AD ARANĐELOV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62520" y="4343400"/>
            <a:ext cx="1244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Arial"/>
              </a:rPr>
              <a:t>5. STRUKTURA ZAPOSLEN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92720" y="1479600"/>
            <a:ext cx="24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cc3300"/>
                </a:solidFill>
                <a:latin typeface="Arial"/>
              </a:rPr>
              <a:t>KVALIFIKACIONA STRUK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2000" y="381636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cc3300"/>
                </a:solidFill>
                <a:latin typeface="Arial"/>
              </a:rPr>
              <a:t>STAROSNA STRUK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238480" y="1746360"/>
          <a:ext cx="5838840" cy="2133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38480" y="1746360"/>
                    <a:ext cx="583884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238480" y="4114800"/>
          <a:ext cx="5838840" cy="1981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38480" y="4114800"/>
                    <a:ext cx="58388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Arial"/>
              </a:rPr>
              <a:t>6. FINANSIJSKI POKAZATEL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10400" y="1600200"/>
            <a:ext cx="142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cc3300"/>
                </a:solidFill>
                <a:latin typeface="Arial"/>
              </a:rPr>
              <a:t>BILANS USPE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124000" y="1989000"/>
          <a:ext cx="471636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1989000"/>
                    <a:ext cx="4716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AppTime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1447920"/>
            <a:ext cx="66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cc3300"/>
                </a:solidFill>
                <a:latin typeface="Arial"/>
              </a:rPr>
              <a:t>BILANS STANJA NA DAN 31.03.2002. </a:t>
            </a:r>
            <a:r>
              <a:rPr b="1" lang="hr-HR" sz="1000" spc="-1" strike="noStrike">
                <a:solidFill>
                  <a:srgbClr val="cc3300"/>
                </a:solidFill>
                <a:latin typeface="Arial"/>
              </a:rPr>
              <a:t> KORIGOVANA KNJIGOVODSTVENA VREDN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835280" y="1773360"/>
          <a:ext cx="6848280" cy="4335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773360"/>
                    <a:ext cx="684828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10400" y="106668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cc3300"/>
                </a:solidFill>
                <a:latin typeface="Arial"/>
              </a:rPr>
              <a:t>BILANS STAN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124000" y="1413000"/>
          <a:ext cx="5670720" cy="46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1413000"/>
                    <a:ext cx="567072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33720" y="533520"/>
            <a:ext cx="66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cc3300"/>
                </a:solidFill>
                <a:latin typeface="AppTimes"/>
              </a:rPr>
              <a:t>NETO  OBRTNI  F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7280" y="12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09800" y="903240"/>
          <a:ext cx="5834160" cy="5162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9800" y="903240"/>
                    <a:ext cx="583416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c3300"/>
                </a:solidFill>
                <a:latin typeface="Arial"/>
              </a:rPr>
              <a:t>SADRŽA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7040" y="24382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Uvo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Osnovne informaci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Podaci o imovini preduzeć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Usluge i pozicija na tržišt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Struktura zaposleni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Finansijski pokazatelj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c3300"/>
                </a:solidFill>
                <a:latin typeface="Arial"/>
              </a:rPr>
              <a:t>1. Uv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3300"/>
                </a:solidFill>
                <a:latin typeface="Arial"/>
              </a:rPr>
              <a:t>Agencija za Privatizaciju Republike Srbije je donela odluku o privatizovanju HOTEL IZVOR A.D. ARANDJELOV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3300"/>
                </a:solidFill>
                <a:latin typeface="Arial"/>
              </a:rPr>
              <a:t>BECONEX je angažovan kao konsultantska kuća na projektu privatizaci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3300"/>
                </a:solidFill>
                <a:latin typeface="Arial"/>
              </a:rPr>
              <a:t>Procena vred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3300"/>
                </a:solidFill>
                <a:latin typeface="Arial"/>
              </a:rPr>
              <a:t>Program privatiza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3300"/>
                </a:solidFill>
                <a:latin typeface="Arial"/>
              </a:rPr>
              <a:t>Pripremnjen je PROFIL PREDUZEĆ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95280" y="2908440"/>
            <a:ext cx="320040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Arial"/>
              </a:rPr>
              <a:t>2. OSNOVNE INFORM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050920" y="2060640"/>
          <a:ext cx="5837400" cy="3117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2060640"/>
                    <a:ext cx="5837400" cy="31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Arial"/>
              </a:rPr>
              <a:t>3. PODACI O IMOV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64280" y="190512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cc3300"/>
                </a:solidFill>
                <a:latin typeface="Arial"/>
              </a:rPr>
              <a:t>ZEMLJIŠ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3625920"/>
            <a:ext cx="20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cc3300"/>
                </a:solidFill>
                <a:latin typeface="Arial"/>
              </a:rPr>
              <a:t>NAJVAŽNIJI OBJEK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969920" y="2203560"/>
          <a:ext cx="6201000" cy="973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9920" y="2203560"/>
                    <a:ext cx="62010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016000" y="4067280"/>
          <a:ext cx="6131160" cy="961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16000" y="4067280"/>
                    <a:ext cx="613116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Arial"/>
              </a:rPr>
              <a:t>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6400" y="214164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cc3300"/>
                </a:solidFill>
                <a:latin typeface="Arial"/>
              </a:rPr>
              <a:t>NAJVAŽNIJA OPR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016000" y="2590920"/>
          <a:ext cx="5838840" cy="2754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16000" y="2590920"/>
                    <a:ext cx="583884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Arial"/>
              </a:rPr>
              <a:t>STRUKTURA OP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085840" y="1898640"/>
          <a:ext cx="5838840" cy="73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5840" y="1898640"/>
                    <a:ext cx="583884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085840" y="2965320"/>
          <a:ext cx="5838840" cy="92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85840" y="2965320"/>
                    <a:ext cx="583884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085840" y="4184640"/>
          <a:ext cx="5838840" cy="892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85840" y="4184640"/>
                    <a:ext cx="583884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085840" y="5334120"/>
          <a:ext cx="5838840" cy="738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85840" y="5334120"/>
                    <a:ext cx="583884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Arial"/>
              </a:rPr>
              <a:t>4. USLUGE I POZICIJE NA TRŽIŠTU</a:t>
            </a:r>
            <a:r>
              <a:rPr b="1" lang="hr-HR" sz="2800" spc="-1" strike="noStrike">
                <a:solidFill>
                  <a:srgbClr val="cc3300"/>
                </a:solidFill>
                <a:latin typeface="AppGaramondCy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66920" y="2362320"/>
            <a:ext cx="4771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3300"/>
                </a:solidFill>
                <a:latin typeface="Arial"/>
              </a:rPr>
              <a:t>REALIZACIJA U 200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16.950 noćenj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2.825 polupansion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7.769  noćenja sa doručko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3300"/>
                </a:solidFill>
                <a:latin typeface="Arial"/>
              </a:rPr>
              <a:t>KORIŠĆENJE KAPACITETA</a:t>
            </a:r>
            <a:r>
              <a:rPr b="1" lang="hr-HR" sz="24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1999. povećano za 34% u odnosu na prethodnu godin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2000. povećano 43%,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2001. 50% u odnosu na 2000-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58920" y="3141720"/>
            <a:ext cx="266364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AppTimes"/>
              </a:rPr>
              <a:t>...</a:t>
            </a:r>
            <a:r>
              <a:rPr b="1" lang="hr-HR" sz="2800" spc="-1" strike="noStrike">
                <a:solidFill>
                  <a:srgbClr val="cc3300"/>
                </a:solidFill>
                <a:latin typeface="AppGaramondCy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3300"/>
                </a:solidFill>
                <a:latin typeface="Arial"/>
              </a:rPr>
              <a:t>NABAVK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69696"/>
                </a:solidFill>
                <a:latin typeface="Arial"/>
              </a:rPr>
              <a:t>MLEKARA MLADOST KRAGUJEV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69696"/>
                </a:solidFill>
                <a:latin typeface="Arial"/>
              </a:rPr>
              <a:t>STR FILE CRVEN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69696"/>
                </a:solidFill>
                <a:latin typeface="Arial"/>
              </a:rPr>
              <a:t>STRP GOLD ARANĐELOV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69696"/>
                </a:solidFill>
                <a:latin typeface="Arial"/>
              </a:rPr>
              <a:t>TEHNOOPREMA A.D. BEOGR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69696"/>
                </a:solidFill>
                <a:latin typeface="Arial"/>
              </a:rPr>
              <a:t>MAJDANAC D.O.O ARANĐELOV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3300"/>
                </a:solidFill>
                <a:latin typeface="Arial"/>
              </a:rPr>
              <a:t>PRODAJ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69696"/>
                </a:solidFill>
                <a:latin typeface="Arial"/>
              </a:rPr>
              <a:t>Turstička agencija MARATON Ki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69696"/>
                </a:solidFill>
                <a:latin typeface="Arial"/>
              </a:rPr>
              <a:t>TRANSFER Novi S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69696"/>
                </a:solidFill>
                <a:latin typeface="Arial"/>
              </a:rPr>
              <a:t>OTA Bačka Palan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69696"/>
                </a:solidFill>
                <a:latin typeface="Arial"/>
              </a:rPr>
              <a:t>KONTE Beogr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69696"/>
                </a:solidFill>
                <a:latin typeface="Arial"/>
              </a:rPr>
              <a:t>UNISTURS Banjalu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295280" y="3200400"/>
            <a:ext cx="32004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6:33:23Z</dcterms:created>
  <dc:creator>G4</dc:creator>
  <dc:description/>
  <dc:language>en-US</dc:language>
  <cp:lastModifiedBy>Miodrag Tatarević</cp:lastModifiedBy>
  <dcterms:modified xsi:type="dcterms:W3CDTF">2002-10-17T06:26:44Z</dcterms:modified>
  <cp:revision>123</cp:revision>
  <dc:subject/>
  <dc:title>PROFIL PREDUZE∆A</dc:title>
</cp:coreProperties>
</file>